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FF39-E77A-4D36-B8B6-00C438ED9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7396-9783-4A73-A02B-4A4A3F91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AAB8-B0AE-4FAE-AEFD-4AC70AA56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47E6-44BE-4EF4-BEC3-00C1F2EBA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33BE-7921-4D83-AB64-D0640D20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7614-427B-4B34-946B-CCD046E79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E43E-682D-445B-88B5-F41FFDBF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CD22-46D5-40AB-ACCA-94A28B19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2BA4-5936-43C1-AEE0-5EB9FB4F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9BCF-FF43-44A7-B1F4-EDA9D5C3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504F-CA16-4E04-98AF-F1B037CC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C4AD-6381-4AF1-A94E-B711F158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124B-CB3A-4B7D-AB65-4CA186A71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69 V tvojom do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svätý Pan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tvojom dome, svätý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chcem tebe chválu vzd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dnes nové požehnani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z ruky tvojej smieme vzi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dvráť myseľ od márn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jasom neba naplň z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ch nás vedie k poslušn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tvoj Duch Svätý v k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dý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s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žalmoch chvál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slovách piesn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rijmi našej vďaky hlas,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e si s nami v každej tiesn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tvoja láska bl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í 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dvráť myseľ od márn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jasom neba naplň z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ch nás vedie k poslušn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tvoj Duch Svätý v k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dý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s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Túžobne už, Spasiteľ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na tvoj príchod čakám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zrak svoj denne k viery cieľ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k nebu smelo dvíha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dvráť myseľ od márn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jasom neba naplň z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ch nás vedie k poslušn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tvoj Duch Svätý v k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dý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s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6:35:03Z</dcterms:modified>
  <cp:revision>22</cp:revision>
  <dc:subject/>
  <dc:title>Je veľký náš Pán, on slávy je Kráľ Nech do všetkých strán  spev vrúcnych znie chvál.</dc:title>
</cp:coreProperties>
</file>